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41E-4FEF-47A5-AF24-172F1ADF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5B0-2D5A-4490-B903-19DE8EF5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0BD-72FB-4EB4-9A07-48CCEC8A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71B-F579-43D3-8D9A-83ED16BA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1D73-49A5-4ABC-9560-70976BB2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2CFE-BCAF-44C3-9408-2858590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CB64-73F7-4B91-AC99-9D998F11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6BFE-EE59-4019-9510-15C611F5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7B65-B6F5-4653-A71C-D9117E62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5BDF-E0A0-43C0-8B1C-EA9E6B8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BD51-8F22-417D-8AA7-D8E03DF3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789-1B64-4432-BB55-62079CA6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3850-F8F4-4878-AB8B-852220A4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0F65-0504-4386-8C72-D8087691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FAE7-0EC0-4451-9D40-08D511A7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8B83-8E09-40A6-B264-5675783E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200C-2A63-40D6-A6AD-8A0F9ACB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6F6-A98F-4FDA-A586-3305AAA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B87-ECE1-415D-8393-98477640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16C-92CC-491B-81D1-6432242A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876-E5D0-4E22-8815-9D333E95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1D2-A84F-4848-A49E-5EB95A4D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B39-92C2-4D04-9818-99CBC6D2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17F-3634-4369-A55E-6CED2DA3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E889-6C74-4BB7-8449-35473D9D757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6C5A-868F-4127-8C43-D67EE4494FD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9219960" cy="691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24280" y="304920"/>
            <a:ext cx="44197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Getting to know the Wireless Laptop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0600" y="99072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Times New Roman"/>
              </a:rPr>
              <a:t>Caring for the Laptop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4440" y="2057400"/>
            <a:ext cx="43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Carry it with both h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666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Use on a flat surface, O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3276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Do not touch the scre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91200" y="3962520"/>
            <a:ext cx="57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Find a babysitter for your lapto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3160" y="464832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No horsep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93800" y="304920"/>
            <a:ext cx="45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Times New Roman"/>
              </a:rPr>
              <a:t>Using the Laptop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419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Use one finger to mo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7280" y="149220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Getting Started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6480" y="3048120"/>
            <a:ext cx="28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Open careful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4320" y="373392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Push in power but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0" y="5105520"/>
            <a:ext cx="45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Log in as your user n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14880" y="5029200"/>
            <a:ext cx="726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Close Laptop carefully and return to cart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plug in to rechar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cc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Only an adult may push the c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12920" y="685800"/>
            <a:ext cx="605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Times New Roman"/>
              </a:rPr>
              <a:t>Using the Laptop, con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1280" y="205740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When you’re finished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71360" y="2819520"/>
            <a:ext cx="525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Do not save on the hard dr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cc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Quit all appl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0120" y="3962520"/>
            <a:ext cx="45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Click on the Start Butt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and select  “Shut Dow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3228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60948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Times New Roman"/>
              </a:rPr>
              <a:t>Quiz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4382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438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cc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ow do you carry a laptop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657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. How do you turn it on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029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What are three things you do when you are finished using the laptop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9:56:06Z</dcterms:created>
  <dc:creator>Summit Ridge Middle School</dc:creator>
  <dc:description/>
  <dc:language>en-US</dc:language>
  <cp:lastModifiedBy>Jeffco</cp:lastModifiedBy>
  <dcterms:modified xsi:type="dcterms:W3CDTF">2008-01-22T17:31:32Z</dcterms:modified>
  <cp:revision>40</cp:revision>
  <dc:subject/>
  <dc:title>No Slide Title</dc:title>
</cp:coreProperties>
</file>